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11E5-C1ED-4356-ACA0-29CE4332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4A7A-5FD2-44A4-9316-34166153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90A5-296B-4B23-BDB1-B6509237D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71CF-B76C-4E74-A5F9-5F788CA0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A48C-F8B9-4BFB-ADE5-B93D2ED2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5364-4077-4895-A587-656362B4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C2EF-79EC-468A-81B0-9D0D338A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861B-AB5F-4761-90DB-8739B153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69C0-FBF9-4124-BD38-05E1BF93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AD56-B368-48A2-B7F9-4736A270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6364-46C1-4862-9601-4382F515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5A1C-C196-4E6C-BEF0-8D8661CA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62CC-4D39-4A23-B1D8-16A49BF49AB3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4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inion Ess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. Stimulate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echnological changes have occurred in the past fifty years? Which one has had the biggest effect on everyday lif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has it chang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ays of doing thing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What were the benefits and/or disadvantages of these chang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lse has been affected by this inven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feel about the change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2. Brainst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00040" y="1643040"/>
          <a:ext cx="8215200" cy="2500200"/>
        </p:xfrm>
        <a:graphic>
          <a:graphicData uri="http://schemas.openxmlformats.org/drawingml/2006/table">
            <a:tbl>
              <a:tblPr/>
              <a:tblGrid>
                <a:gridCol w="2516040"/>
                <a:gridCol w="3341880"/>
                <a:gridCol w="2357280"/>
              </a:tblGrid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g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inion of a discovery/inven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3. Outl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8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Opinion Essa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Opinion essa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formal piece of essay writing which presents the author’s point of view on a particular subject supported by reasons and examp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purpo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writer is to convince the reader of a point of view on a controversial iss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Successful Opinion Essay Consists of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introduc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where the topic and the author’s opinion are stated clearl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main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bod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where viewpoints supported by reasons are presented in several paragraph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section has also the </a:t>
            </a: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opposing viewpoin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ich is proved to be unconvincing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conclus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where the main points of the essay are summarized and the author’s opinion is restated in other word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86) What Can Space Exploration Do for 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rcise 4-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hetorical Fo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.8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o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ory, anecdote, question, surprising f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kground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is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dy paragrap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ing sentenc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acts, reasons, expla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er-argu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u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tate &amp; reinfor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86) What Can Space Exploration Do for 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rcise 4-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“refutation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k of argument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gain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opin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your argument: do you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gr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isagr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the opin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71680" y="3286080"/>
          <a:ext cx="7929360" cy="1571760"/>
        </p:xfrm>
        <a:graphic>
          <a:graphicData uri="http://schemas.openxmlformats.org/drawingml/2006/table">
            <a:tbl>
              <a:tblPr/>
              <a:tblGrid>
                <a:gridCol w="2643120"/>
                <a:gridCol w="2643120"/>
                <a:gridCol w="2643120"/>
              </a:tblGrid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g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in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ag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 is bad for childr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71680" y="5000760"/>
          <a:ext cx="7929360" cy="1554120"/>
        </p:xfrm>
        <a:graphic>
          <a:graphicData uri="http://schemas.openxmlformats.org/drawingml/2006/table">
            <a:tbl>
              <a:tblPr/>
              <a:tblGrid>
                <a:gridCol w="2643120"/>
                <a:gridCol w="2643120"/>
                <a:gridCol w="264312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ce exploration is important and should be founded by the govern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three-to-four paragraph essay about an important invention or discovery that has taken place in your life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 and explain why you think it is beneficial or harmful to socie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.81) Wireless: Bhutan’s Hills Are Alive with Sound of Cell Ph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none The north face of Mount Everest as seen from the path to the base camp in Tibet"/>
          <p:cNvPicPr/>
          <p:nvPr/>
        </p:nvPicPr>
        <p:blipFill>
          <a:blip r:embed="rId2"/>
          <a:stretch/>
        </p:blipFill>
        <p:spPr>
          <a:xfrm>
            <a:off x="928800" y="2786040"/>
            <a:ext cx="2928960" cy="1628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upload.wikimedia.org/wikipedia/commons/thumb/c/c3/Thimphu_view_080907.JPG/300px-Thimphu_view_080907.JPG"/>
          <p:cNvPicPr/>
          <p:nvPr/>
        </p:nvPicPr>
        <p:blipFill>
          <a:blip r:embed="rId3"/>
          <a:stretch/>
        </p:blipFill>
        <p:spPr>
          <a:xfrm>
            <a:off x="928800" y="4500720"/>
            <a:ext cx="2928960" cy="21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Thimphu"/>
          <p:cNvPicPr/>
          <p:nvPr/>
        </p:nvPicPr>
        <p:blipFill>
          <a:blip r:embed="rId4"/>
          <a:stretch/>
        </p:blipFill>
        <p:spPr>
          <a:xfrm>
            <a:off x="4714920" y="278604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23:58:07Z</dcterms:created>
  <dc:creator>Windows 使用者</dc:creator>
  <dc:description/>
  <dc:language>en-US</dc:language>
  <cp:lastModifiedBy>Windows 使用者</cp:lastModifiedBy>
  <dcterms:modified xsi:type="dcterms:W3CDTF">2009-04-23T15:42:00Z</dcterms:modified>
  <cp:revision>12</cp:revision>
  <dc:subject/>
  <dc:title>投影片 1</dc:title>
</cp:coreProperties>
</file>